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4EC-B67C-44EC-B944-F54AFDE7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BCD-AF28-458C-AB16-805F8AFA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C68-E228-44B3-8368-AC92D992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2AB-47C5-4A7D-B5CF-62B074CB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3C5-0D89-479B-A6F9-B5353DAD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8E8-D4BA-4866-BB1D-5ADB1A49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D65-DE6F-4A50-8C52-26E9F4C7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EC3-93CF-4113-955D-9E090CAE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DE6-BF22-4F12-8BF9-475EE4B3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F07-AF0A-49D6-9FAD-D9BD64EE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827-866B-46A5-A77E-D642DF54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2A7-C448-46A2-B5EE-7C0F3D4B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CBAA-DE07-4042-A205-02D5E6C4F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1120" y="18288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utra técnica de sintonia de 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1878" t="30167" r="45313" b="45331"/>
          <a:stretch/>
        </p:blipFill>
        <p:spPr>
          <a:xfrm>
            <a:off x="2438280" y="2971800"/>
            <a:ext cx="52578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62560" y="30492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 em variável des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2480" y="1066680"/>
            <a:ext cx="8692920" cy="5610240"/>
            <a:chOff x="222480" y="1066680"/>
            <a:chExt cx="8692920" cy="5610240"/>
          </a:xfrm>
        </p:grpSpPr>
        <p:sp>
          <p:nvSpPr>
            <p:cNvPr id="114" name=""/>
            <p:cNvSpPr/>
            <p:nvPr/>
          </p:nvSpPr>
          <p:spPr>
            <a:xfrm>
              <a:off x="222480" y="1066680"/>
              <a:ext cx="51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ve o tempo anterior a perturbação (tempo&lt;100)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6846840" y="2057400"/>
              <a:ext cx="206532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038480" y="2057400"/>
              <a:ext cx="2009880" cy="17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038480" y="3994200"/>
              <a:ext cx="205740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6846840" y="3984480"/>
              <a:ext cx="2068560" cy="18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161040" y="502920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61040" y="312408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6840" y="1828800"/>
              <a:ext cx="4572000" cy="48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%Acha o elemento que representa o inst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% de aplicacao do pul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elemento=find(tempo&gt;99.9 &amp; tempo&lt;100.1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elemento=elemento(1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%Apaga tudo que existe antes desse inst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tempo(1:elemento,:)=[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S(1:elemento,:)=[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X(1:elemento,:)=[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%Visualiz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figure(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lot(tempo,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title('X'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figure(4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lot(tempo,S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title('S'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2438280"/>
              <a:ext cx="243828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2819520"/>
              <a:ext cx="220968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25880" y="3200400"/>
              <a:ext cx="304920" cy="685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62560" y="30492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 em variável des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5720" y="10666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ige a escala de temp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514600"/>
            <a:ext cx="243864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Corrige a escala de tem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empo=tempo-1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Visualiz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igure(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lot(tempo,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itle('X'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igure(6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lot(tempo,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itle('S'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057400" cy="1797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2065320" cy="1758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048120" y="3984480"/>
            <a:ext cx="2068560" cy="1806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57800" y="48769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29718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979960" y="3962520"/>
            <a:ext cx="209736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40680" y="30492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ções de trans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00200"/>
            <a:ext cx="457200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%Seleção do Mode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odelo = menu('Seleção do Modelo                          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1a. Ordem com Tempo Morto (linha G - tabela 121)      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Lead-Lag com Tempo Morto  (linha P - tabela 121)      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2a. Ordem com Tempo Morto (linha Q - tabela 121)      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1 Polo, 2 Zeros com Tempo Morto (linha K - tabela 121)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1a. Ordem (linha A - tabela 121)                      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Integrador (linha E - tabela 121)                     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Integrador com tempo morto (linha M tabela 121)       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Linha O Tabela 121                                    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Linha F Tabela 121                                      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'Linha B Tabela 121                                      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990880" cy="3790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378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62320" y="2438280"/>
            <a:ext cx="45720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seif modelo=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u=input('Tau  =        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K  =input('K    =        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X0= [Tau    K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lb=[0.01  -100];%limite inferior para o parametro otimiz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ub=100*ones(2,1);%limite superior para o parametro otimiz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6823" r="903" b="44686"/>
          <a:stretch/>
        </p:blipFill>
        <p:spPr>
          <a:xfrm>
            <a:off x="2971800" y="1752480"/>
            <a:ext cx="2963880" cy="322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0" r="0" b="87501"/>
          <a:stretch/>
        </p:blipFill>
        <p:spPr>
          <a:xfrm>
            <a:off x="533520" y="4572000"/>
            <a:ext cx="8076960" cy="1096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3480" y="38088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ções de transferência: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m sem tempo m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54160" y="380880"/>
            <a:ext cx="45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ustando os parâmetros do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905120"/>
            <a:ext cx="67057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Ajusta a opçao de visualizaca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 OPTIONS(1)-Display parameter (Default:0). 1 displays some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pcao=foptio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pcao(1)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Chama o otimizad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y=S; %dados a serem ajus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Xotimo=constr('objetivo',X0,opcao,vlb,vub,[],degrau,y,tempo,model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74160" y="5000760"/>
            <a:ext cx="37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Otimizador multi-variável com restr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44877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27080" y="4518000"/>
            <a:ext cx="838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7600" y="4195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29680" y="296244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dos experimen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05520" y="3276720"/>
            <a:ext cx="5331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9000" y="4410000"/>
            <a:ext cx="4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4419720"/>
            <a:ext cx="13032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3480" y="44956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o a ser u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44956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495680"/>
            <a:ext cx="175248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05560" y="5715000"/>
            <a:ext cx="53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Otimizador retorna o valor ótimo dos parâmetros de 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16400" y="4191120"/>
            <a:ext cx="4078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60840" y="2666880"/>
            <a:ext cx="15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grau (desv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436640" y="3021120"/>
            <a:ext cx="63720" cy="116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81080"/>
            <a:ext cx="45720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seif modelo =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% MODELO: PRIMEIRA ORDEM (LINHA A, Tabela 121)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%               1     Ganho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%   Y(s)= --- 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%               s     (Tau*s+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%  ilaplace((1/s)*(k/(tau*s+1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u    = X(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anho  = X(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ycalc  = degrau*Ganho*(1-exp(-tempo/Tau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4160" y="380880"/>
            <a:ext cx="45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ustando os parâmetros do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9760" y="14479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ção obje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8480" y="4734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80" y="5410080"/>
            <a:ext cx="454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lculado pelo ajuste do modelo. Será compa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 os dados experimentais de modo a minimiz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diferença entre o calculado e o med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514600"/>
            <a:ext cx="2286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9360" y="2590920"/>
            <a:ext cx="409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 perturbação aplicada ao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é degrau, logo a função de transfer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o modelo deve ser multiplicada pelo degra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362320"/>
            <a:ext cx="838080" cy="114300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70800" y="3809880"/>
            <a:ext cx="408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Modelo de primeira ordem sem tempo m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191120"/>
            <a:ext cx="297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44956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arâmetros a serem ajustados p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otimizad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4160" y="380880"/>
            <a:ext cx="45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ustando os parâmetros do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49760" y="1447920"/>
            <a:ext cx="8375040" cy="5410080"/>
            <a:chOff x="149760" y="1447920"/>
            <a:chExt cx="8375040" cy="5410080"/>
          </a:xfrm>
        </p:grpSpPr>
        <p:sp>
          <p:nvSpPr>
            <p:cNvPr id="174" name=""/>
            <p:cNvSpPr/>
            <p:nvPr/>
          </p:nvSpPr>
          <p:spPr>
            <a:xfrm>
              <a:off x="609480" y="1981080"/>
              <a:ext cx="4572000" cy="27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elseif modelo =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% MODELO: PRIMEIRA ORDEM (LINHA A, Tabela 121)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%               1     Ganho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%   Y(s)= --- 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%               s     (Tau*s+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%  ilaplace((1/s)*(k/(tau*s+1))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Tau    = X(1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Ganho  = X(2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ycalc  = degrau*Ganho*(1-exp(-tempo/Tau)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9760" y="1447920"/>
              <a:ext cx="190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unção objetiv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86200" y="2819520"/>
              <a:ext cx="1600200" cy="1981080"/>
            </a:xfrm>
            <a:custGeom>
              <a:avLst/>
              <a:gdLst>
                <a:gd name="textAreaLeft" fmla="*/ 214200 w 1600200"/>
                <a:gd name="textAreaRight" fmla="*/ 1386000 w 1600200"/>
                <a:gd name="textAreaTop" fmla="*/ 424440 h 1981080"/>
                <a:gd name="textAreaBottom" fmla="*/ 13878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255" stAng="-5400000" swAng="5400000"/>
                  <a:lnTo>
                    <a:pt x="21600" y="10502"/>
                  </a:lnTo>
                  <a:arcTo wR="21600" hR="9255" stAng="0" swAng="4218776"/>
                  <a:lnTo>
                    <a:pt x="3273" y="21493"/>
                  </a:lnTo>
                  <a:lnTo>
                    <a:pt x="0" y="19133"/>
                  </a:lnTo>
                  <a:lnTo>
                    <a:pt x="3273" y="16558"/>
                  </a:lnTo>
                  <a:lnTo>
                    <a:pt x="3273" y="18402"/>
                  </a:lnTo>
                  <a:arcTo wR="21600" hR="9255" stAng="4218776" swAng="-4119344"/>
                  <a:lnTo>
                    <a:pt x="21551" y="9878"/>
                  </a:lnTo>
                  <a:arcTo wR="21600" hR="9255" stAng="-99431" swAng="-5300569"/>
                  <a:close/>
                </a:path>
                <a:path fill="darkenLess" w="21600" h="21600">
                  <a:moveTo>
                    <a:pt x="0" y="0"/>
                  </a:moveTo>
                  <a:arcTo wR="21600" hR="9255" stAng="-5400000" swAng="5400000"/>
                  <a:lnTo>
                    <a:pt x="21600" y="10502"/>
                  </a:lnTo>
                  <a:arcTo wR="21600" hR="9255" stAng="0" swAng="-99431"/>
                  <a:lnTo>
                    <a:pt x="21551" y="9878"/>
                  </a:lnTo>
                  <a:arcTo wR="21600" hR="9255" stAng="-99431" swAng="-5300569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56400" y="5943600"/>
              <a:ext cx="2492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yms s k t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ilaplace((1/s)*(k/(tau*s+1)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6000" y="3429000"/>
              <a:ext cx="27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Use a tabela de transform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de Lapl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29880" y="5562720"/>
              <a:ext cx="47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ICA: Usando a toolbox simbólica do Matlab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47920" y="5410080"/>
              <a:ext cx="6095880" cy="144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54160" y="380880"/>
            <a:ext cx="45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ustando os parâmetros do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676520"/>
            <a:ext cx="73911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Calculo do erro (diferença entre o valor experimental e o valor calcul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obj=(y-ycalc)'*(y-ycal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Grafico de acompanhamento do aju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lot(tempo,y,'*',tempo,ycalc,'m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itle(['X = [' num2str(X) '];  FObj = ' num2str(fobj)]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raw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2463" t="2559" r="22607" b="33051"/>
          <a:stretch/>
        </p:blipFill>
        <p:spPr>
          <a:xfrm>
            <a:off x="4419720" y="2362320"/>
            <a:ext cx="41148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87501"/>
          <a:stretch/>
        </p:blipFill>
        <p:spPr>
          <a:xfrm>
            <a:off x="533520" y="1676520"/>
            <a:ext cx="8076960" cy="1096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90920" y="29718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sultado do otimiz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Xotimo =   2.6854   -1.16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43000" y="407520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21120" y="4133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2912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2971800"/>
            <a:ext cx="3353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uste do 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743200" y="4876920"/>
            <a:ext cx="4572000" cy="1552320"/>
            <a:chOff x="2743200" y="4876920"/>
            <a:chExt cx="4572000" cy="1552320"/>
          </a:xfrm>
        </p:grpSpPr>
        <p:sp>
          <p:nvSpPr>
            <p:cNvPr id="193" name=""/>
            <p:cNvSpPr/>
            <p:nvPr/>
          </p:nvSpPr>
          <p:spPr>
            <a:xfrm>
              <a:off x="2743200" y="541332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Kc . K =  tau / tau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Kc = tau / (K . tau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7320" y="4876920"/>
              <a:ext cx="188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control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4160" y="38088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 com controlador de S at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812" t="0" r="6608" b="25912"/>
          <a:stretch/>
        </p:blipFill>
        <p:spPr>
          <a:xfrm>
            <a:off x="303120" y="1295280"/>
            <a:ext cx="8535960" cy="479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224440" y="632448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quivos bio.mdl , bior.m , Ftransf.m , objetivo.m   e  reator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27" t="12898" r="6612" b="25896"/>
          <a:stretch/>
        </p:blipFill>
        <p:spPr>
          <a:xfrm>
            <a:off x="304920" y="137160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051280" y="38088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mportância da sintonia do 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2438280"/>
            <a:ext cx="3584520" cy="2971800"/>
            <a:chOff x="380880" y="2438280"/>
            <a:chExt cx="3584520" cy="2971800"/>
          </a:xfrm>
        </p:grpSpPr>
        <p:sp>
          <p:nvSpPr>
            <p:cNvPr id="49" name=""/>
            <p:cNvSpPr/>
            <p:nvPr/>
          </p:nvSpPr>
          <p:spPr>
            <a:xfrm>
              <a:off x="1523880" y="2438280"/>
              <a:ext cx="60984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0880" y="3048120"/>
              <a:ext cx="11430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33720" y="3048120"/>
              <a:ext cx="18288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880" y="3352680"/>
              <a:ext cx="3581640" cy="2057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393840" y="3370320"/>
              <a:ext cx="3571560" cy="203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43400" y="990720"/>
            <a:ext cx="3247920" cy="264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343400" y="3657600"/>
            <a:ext cx="327672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827" t="12898" r="6612" b="25896"/>
          <a:stretch/>
        </p:blipFill>
        <p:spPr>
          <a:xfrm>
            <a:off x="304920" y="1371600"/>
            <a:ext cx="8534160" cy="39625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80880" y="2438280"/>
            <a:ext cx="3586320" cy="2971800"/>
            <a:chOff x="380880" y="2438280"/>
            <a:chExt cx="3586320" cy="2971800"/>
          </a:xfrm>
        </p:grpSpPr>
        <p:sp>
          <p:nvSpPr>
            <p:cNvPr id="58" name=""/>
            <p:cNvSpPr/>
            <p:nvPr/>
          </p:nvSpPr>
          <p:spPr>
            <a:xfrm>
              <a:off x="1523880" y="2438280"/>
              <a:ext cx="60984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80880" y="3048120"/>
              <a:ext cx="11430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3048120"/>
              <a:ext cx="18288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880" y="3352680"/>
              <a:ext cx="3581640" cy="2057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395280" y="3348000"/>
              <a:ext cx="3571920" cy="203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343400" y="3733920"/>
            <a:ext cx="3238560" cy="2657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356000" y="1101600"/>
            <a:ext cx="3248280" cy="264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1280" y="38088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mportância da sintonia do 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52320" y="30492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ndo a tabela vamos sintonizar o 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019160"/>
            <a:ext cx="5378400" cy="583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83880" y="2403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c: 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1520" y="29718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: 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5880" y="3962520"/>
            <a:ext cx="2590920" cy="1752480"/>
            <a:chOff x="6095880" y="3962520"/>
            <a:chExt cx="2590920" cy="1752480"/>
          </a:xfrm>
        </p:grpSpPr>
        <p:sp>
          <p:nvSpPr>
            <p:cNvPr id="71" name=""/>
            <p:cNvSpPr/>
            <p:nvPr/>
          </p:nvSpPr>
          <p:spPr>
            <a:xfrm>
              <a:off x="6651000" y="4495680"/>
              <a:ext cx="140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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51360" y="5105160"/>
              <a:ext cx="1500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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3962520"/>
              <a:ext cx="259092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56240" y="402588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Rivera et 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817240" y="6451560"/>
            <a:ext cx="29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Seborg (Process and Dynamic Contro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4400" y="30492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rbando a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461" t="0" r="7210" b="32802"/>
          <a:stretch/>
        </p:blipFill>
        <p:spPr>
          <a:xfrm>
            <a:off x="380880" y="914400"/>
            <a:ext cx="8247240" cy="4214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24000" y="2446200"/>
            <a:ext cx="1300320" cy="1287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3880" y="4419720"/>
            <a:ext cx="2362320" cy="1925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19720" y="4419720"/>
            <a:ext cx="23619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5486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modelar a resposta do sistema tenho que mandar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ultados para o workspace do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590920" y="1600200"/>
            <a:ext cx="3504600" cy="3123720"/>
            <a:chOff x="2590920" y="1600200"/>
            <a:chExt cx="3504600" cy="31237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590920" y="1600200"/>
              <a:ext cx="3504600" cy="31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286520" y="3083400"/>
              <a:ext cx="452160" cy="1359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91440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 função de transferência descreve essa respos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7040" y="380880"/>
            <a:ext cx="48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dando os dados para o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429000" cy="3273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257800" y="3505320"/>
            <a:ext cx="312408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9413" r="60678" b="52828"/>
          <a:stretch/>
        </p:blipFill>
        <p:spPr>
          <a:xfrm>
            <a:off x="838080" y="1447920"/>
            <a:ext cx="3835440" cy="258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4343400"/>
            <a:ext cx="457200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=  time: [2007x1 doubl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signals: [1x1 struc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blockName: 'bio/Substrato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.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values: [2007x1 doubl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imensions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label: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3341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267080"/>
            <a:ext cx="30477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1960" y="487692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dados=S.signals.valu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6360" y="533412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dados=X.signals.valu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1240" y="57913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ut=S.ti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2560" y="30492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 em variável des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080" y="10666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o estado estacionár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0"/>
            <a:ext cx="274320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X=X-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S=S-1.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%Visualiz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igure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lot(tempo,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itle('X'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igure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lot(tempo,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itle('S'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2095560" cy="17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2097000" cy="171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629400" y="2286000"/>
            <a:ext cx="2009880" cy="175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629400" y="4191120"/>
            <a:ext cx="2057400" cy="1796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43600" y="51055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2004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38080" y="2590920"/>
            <a:ext cx="4114800" cy="1218960"/>
            <a:chOff x="838080" y="2590920"/>
            <a:chExt cx="4114800" cy="1218960"/>
          </a:xfrm>
        </p:grpSpPr>
        <p:sp>
          <p:nvSpPr>
            <p:cNvPr id="106" name=""/>
            <p:cNvSpPr/>
            <p:nvPr/>
          </p:nvSpPr>
          <p:spPr>
            <a:xfrm>
              <a:off x="838080" y="259092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95280" y="2819520"/>
              <a:ext cx="312444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358128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320040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429000"/>
            <a:ext cx="312444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4648320"/>
            <a:ext cx="5331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9:22:22Z</dcterms:created>
  <dc:creator>Carlos Andre Vaz Junior</dc:creator>
  <dc:description/>
  <dc:language>en-US</dc:language>
  <cp:lastModifiedBy>Carlos Andre Vaz Junior</cp:lastModifiedBy>
  <dcterms:modified xsi:type="dcterms:W3CDTF">2005-06-14T11:40:53Z</dcterms:modified>
  <cp:revision>22</cp:revision>
  <dc:subject/>
  <dc:title>Apresentação do PowerPoint</dc:title>
</cp:coreProperties>
</file>